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B477-A228-41C9-A3AF-EA1D0DAE3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EF59-2B30-46B4-A261-E2AEB82F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9232-C3C6-4E66-BD3F-9FA6E4509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A35B-2C08-4775-8E91-EAFFBEED8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B4B2-C550-47FF-B0D4-E9F6ECEE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28BC-42A8-4FCC-94D4-6AD6DA12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0F6F-DD0D-4004-A8D5-80AE4F33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DB0D-1708-41C6-9167-4FA5047A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5265-FAF1-4844-ACCA-48DA91A6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FE53-9D1C-4C21-8ADE-FD74959E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1F79-44DC-4FA6-8A6F-924BB6AA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400B-6014-4B8A-B0F1-0C5149C2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ED4C-CEDD-4438-A200-B0B86A73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C06A-64D7-4274-8DA5-2D853F72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4732-A229-4369-A697-7CD8DAF7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C09D-6106-4E52-A447-E2F7479D4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9460-2DB4-43CB-A745-82232A196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D1E3-C93B-4B12-A749-894C50CB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FB79-134E-4560-B6FC-084BFFA9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A81D-20DF-4405-8A8D-9A7C82B9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8ED6-84E1-40ED-9F04-A82C683C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5CBC-CF5E-42E3-B1C3-0CC03813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E7C4-4922-4F91-AFD1-BD091B2D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4BA2-768D-4979-9B2B-9CB3F6B5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08FF-552C-4977-AE36-259DE6CEBD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888A-692C-4AB2-9C6C-66CCBEBAFE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1"/>
          <p:cNvSpPr/>
          <p:nvPr/>
        </p:nvSpPr>
        <p:spPr>
          <a:xfrm>
            <a:off x="228600" y="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llringer 3/11/20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228600" y="609480"/>
            <a:ext cx="5486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nk about the documentary we watched yesterday and answer the following questions in the first 5 minutes of cla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228600" y="3886200"/>
            <a:ext cx="82296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st three things that you learned by watching 30 Days:  Muslims in Americ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those three things, which one impacted you the most and why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else would you have liked to learn through the documentary or wish you would have seen more of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17" descr="al-jabr"/>
          <p:cNvPicPr/>
          <p:nvPr/>
        </p:nvPicPr>
        <p:blipFill>
          <a:blip r:embed="rId1"/>
          <a:stretch/>
        </p:blipFill>
        <p:spPr>
          <a:xfrm>
            <a:off x="5870520" y="96840"/>
            <a:ext cx="302436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20:10:04Z</dcterms:created>
  <dc:creator>admin</dc:creator>
  <dc:description/>
  <dc:language>en-US</dc:language>
  <cp:lastModifiedBy>admin</cp:lastModifiedBy>
  <dcterms:modified xsi:type="dcterms:W3CDTF">2011-03-11T14:13:06Z</dcterms:modified>
  <cp:revision>12</cp:revision>
  <dc:subject/>
  <dc:title>Slide 1</dc:title>
</cp:coreProperties>
</file>